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59E-B2CF-4272-9BD9-C252CD3C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C29-E081-4F67-AE8D-57265FCA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E21-1D83-4DE1-9EED-CA7574E7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FED-015A-4DA4-8D4B-B45F1639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3351-D95A-41BF-B043-719AEE8B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255E-B073-4E65-A29B-D6495589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83F9-699E-4830-B4F5-AA000732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AF9-5462-4052-8213-52260812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CB6A-EAD7-4F4F-958D-78DD6A6D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CD00-D133-472C-8FE5-B7747F41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0810-C457-4FE0-A566-F9881F8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62E-8FAA-4FEF-985E-2BBA06F4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9FCC-85DD-4249-B78D-AEDD3AA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E7EE-35FA-4779-B750-C0177128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8039-E5B8-450D-8004-E398E2E4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0488-5AFF-445E-80DA-319C2A7B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0C1D-CDE4-41F7-8CCD-2757C197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C14-5C3E-46B0-9301-50E4AC67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266-52BD-414D-ADDF-3003838E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4C5-83D4-424D-94D6-FB6169C8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0F4-62B9-46BD-8653-684972FC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D7E-1A7D-477F-856F-E8F496D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A18-2109-4F4A-A411-7C2C8EAA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3F0-BCA3-44C8-BDFF-32AD49CC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2817-F99D-4247-9B85-3F01E76874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D2E9-D4DC-47B4-8A80-23BA8057D5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Тропы и фигуры реч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99760" y="5428800"/>
            <a:ext cx="6032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МКОУ – Филипповская СО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697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ипербола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( от греч. «преувеличение»)-поэтический приём чрезмерного преувеличения или уменьшения предмета, для выражения восторга, изумления, негодования и т.п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У того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револьве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в четыре курк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саб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в семьдесят лезв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А у это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- рука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и ещё рука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Да и т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за пояс ткну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В. Маяковский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В сто сорок солнц закат пыла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В.Маяковский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7696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Литота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(от греч. «простота»)- художественный приём преуменьшения, противоположный гиперболе, используемый для изобразительно-выразительных свойств ре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Тучи в клочик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В клочочки - клочиш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(В.Маяковский)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Мальчик-с-пальч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ерифраз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(от греч. «пересказ»)- образный оборот, выражение, которое употребляется вместо какого-либо слова или словосочет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Угас, как светоч, дивный гений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Увял торжественный венок 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(М.Ю.Лермонтов)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рония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(от греч. «притворство»)- выражение насмешки или лукавства посредством иносказа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Ай, Моська, знать, она сильн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Что лает на слона.         (И.Крыл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Откуда, умная, бредешь ты ,голова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(И.Крыл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отеск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- искажение или смещение норм действительн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Образ Органчика из « Истории одного города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М.Салтыкова – Щедр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арказм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-злая ,горькая или гневная насмешка. </a:t>
            </a: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«Размышление у парадного подъезда» (Н.Некрас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56800" y="785520"/>
            <a:ext cx="76964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аланбур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-звуковое сходство с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Наш медик в рот больным без счету капли льет. Однако от того ни капли пользы нет.                          ( М. Хераск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4" name="Diagram 4"/>
          <p:cNvGrpSpPr/>
          <p:nvPr/>
        </p:nvGrpSpPr>
        <p:grpSpPr>
          <a:xfrm>
            <a:off x="28080" y="214200"/>
            <a:ext cx="8991360" cy="6419880"/>
            <a:chOff x="28080" y="214200"/>
            <a:chExt cx="8991360" cy="6419880"/>
          </a:xfrm>
        </p:grpSpPr>
        <p:sp>
          <p:nvSpPr>
            <p:cNvPr id="195" name="_s2052"/>
            <p:cNvSpPr/>
            <p:nvPr/>
          </p:nvSpPr>
          <p:spPr>
            <a:xfrm flipH="1" flipV="1">
              <a:off x="2936880" y="2291040"/>
              <a:ext cx="802080" cy="57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96" name="_s2053"/>
            <p:cNvSpPr/>
            <p:nvPr/>
          </p:nvSpPr>
          <p:spPr>
            <a:xfrm>
              <a:off x="1016280" y="91872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Антитеза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97" name="_s2054"/>
            <p:cNvSpPr/>
            <p:nvPr/>
          </p:nvSpPr>
          <p:spPr>
            <a:xfrm flipH="1">
              <a:off x="2278080" y="3423600"/>
              <a:ext cx="113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98" name="_s2055"/>
            <p:cNvSpPr/>
            <p:nvPr/>
          </p:nvSpPr>
          <p:spPr>
            <a:xfrm>
              <a:off x="28080" y="262008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Повтор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99" name="_s2056"/>
            <p:cNvSpPr/>
            <p:nvPr/>
          </p:nvSpPr>
          <p:spPr>
            <a:xfrm flipH="1">
              <a:off x="2936880" y="3984120"/>
              <a:ext cx="802080" cy="57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0" name="_s2057"/>
            <p:cNvSpPr/>
            <p:nvPr/>
          </p:nvSpPr>
          <p:spPr>
            <a:xfrm>
              <a:off x="1016280" y="432144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Инверсия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1" name="_s2058"/>
            <p:cNvSpPr/>
            <p:nvPr/>
          </p:nvSpPr>
          <p:spPr>
            <a:xfrm>
              <a:off x="4523760" y="4219560"/>
              <a:ext cx="0" cy="80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2" name="_s2059"/>
            <p:cNvSpPr/>
            <p:nvPr/>
          </p:nvSpPr>
          <p:spPr>
            <a:xfrm>
              <a:off x="3398400" y="502704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ff"/>
                  </a:solidFill>
                  <a:latin typeface="Arial"/>
                </a:rPr>
                <a:t>Риторическое</a:t>
              </a:r>
              <a:endParaRPr b="0" i="1" lang="en-US" sz="22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200" spc="-1" strike="noStrike">
                  <a:solidFill>
                    <a:srgbClr val="0000ff"/>
                  </a:solidFill>
                  <a:latin typeface="Arial"/>
                </a:rPr>
                <a:t>восклицание</a:t>
              </a:r>
              <a:endParaRPr b="0" i="1" lang="en-US" sz="22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3" name="_s2060"/>
            <p:cNvSpPr/>
            <p:nvPr/>
          </p:nvSpPr>
          <p:spPr>
            <a:xfrm>
              <a:off x="5313960" y="3987720"/>
              <a:ext cx="796680" cy="56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4" name="_s2061"/>
            <p:cNvSpPr/>
            <p:nvPr/>
          </p:nvSpPr>
          <p:spPr>
            <a:xfrm>
              <a:off x="5780880" y="432144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Риторическое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обращение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5" name="_s2062"/>
            <p:cNvSpPr/>
            <p:nvPr/>
          </p:nvSpPr>
          <p:spPr>
            <a:xfrm>
              <a:off x="5643720" y="3423600"/>
              <a:ext cx="11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6" name="_s2063"/>
            <p:cNvSpPr/>
            <p:nvPr/>
          </p:nvSpPr>
          <p:spPr>
            <a:xfrm>
              <a:off x="6769080" y="262008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Риторический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вопрос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7" name="_s2064"/>
            <p:cNvSpPr/>
            <p:nvPr/>
          </p:nvSpPr>
          <p:spPr>
            <a:xfrm flipV="1">
              <a:off x="5313960" y="2291040"/>
              <a:ext cx="796680" cy="56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8" name="_s2065"/>
            <p:cNvSpPr/>
            <p:nvPr/>
          </p:nvSpPr>
          <p:spPr>
            <a:xfrm>
              <a:off x="5780880" y="91872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Градация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09" name="_s2066"/>
            <p:cNvSpPr/>
            <p:nvPr/>
          </p:nvSpPr>
          <p:spPr>
            <a:xfrm flipV="1">
              <a:off x="4523760" y="1821240"/>
              <a:ext cx="0" cy="80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10" name="_s2067"/>
            <p:cNvSpPr/>
            <p:nvPr/>
          </p:nvSpPr>
          <p:spPr>
            <a:xfrm>
              <a:off x="3398400" y="21420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Оксюморон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211" name="_s2068"/>
            <p:cNvSpPr/>
            <p:nvPr/>
          </p:nvSpPr>
          <p:spPr>
            <a:xfrm>
              <a:off x="3398400" y="2624760"/>
              <a:ext cx="2250360" cy="1607040"/>
            </a:xfrm>
            <a:prstGeom prst="ellips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ffcc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mic Sans MS"/>
                </a:rPr>
                <a:t>Синтаксические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mic Sans MS"/>
                </a:rPr>
                <a:t>фигуры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85840" y="189000"/>
            <a:ext cx="74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Фигура -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изменение «естественного» порядка слов в синтаксической конструкции (перестановка слов, пропуск необходимых или использование «лишних», с точки зрения «естественной» речи, лексических элементов),ради достижения дополнительной выразительн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нтитеза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(от греч. «противопоставление»)- сопоставления или противопоставления контрастных понятий и служит для усиления впечатле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Они сошлись. Волна и камень,                                   Стихи и проза, лед и пламень.(А.Пушкин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ксюморон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(от греч. слова «остроумно-глупое»)-сочетает контрастные по значению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Свободные рабы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живой труп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оптимистическая трагед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Таинственно шумит лесная тишина.( И. Бунин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втор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фигура речи, состоящая в повторении звуков, слов, синтаксических конструкций и усиливающая выразительность высказы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-звуковые повторы гласных звуков- ассонанс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(красивая- неугасимая)                   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;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неточная рифма с несовпадающими ударными гласными- диссонанс 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розовый – разовый)</a:t>
            </a: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-лексико-синтаксические повторы -повторение слова в начале строки – анафора ,в конце строки - эпифора, целого стиха - рефре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Тороватому боярину слав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И красавице боярыне слав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(Некрасов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Diagram 66"/>
          <p:cNvGrpSpPr/>
          <p:nvPr/>
        </p:nvGrpSpPr>
        <p:grpSpPr>
          <a:xfrm>
            <a:off x="649800" y="172440"/>
            <a:ext cx="8242920" cy="6495840"/>
            <a:chOff x="649800" y="172440"/>
            <a:chExt cx="8242920" cy="6495840"/>
          </a:xfrm>
        </p:grpSpPr>
        <p:sp>
          <p:nvSpPr>
            <p:cNvPr id="154" name="_s1028"/>
            <p:cNvSpPr/>
            <p:nvPr/>
          </p:nvSpPr>
          <p:spPr>
            <a:xfrm flipH="1" flipV="1">
              <a:off x="3333600" y="1692720"/>
              <a:ext cx="1034280" cy="128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5" name="_s1029"/>
            <p:cNvSpPr/>
            <p:nvPr/>
          </p:nvSpPr>
          <p:spPr>
            <a:xfrm>
              <a:off x="2179800" y="600480"/>
              <a:ext cx="1493640" cy="11872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Эпите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6" name="_s1030"/>
            <p:cNvSpPr/>
            <p:nvPr/>
          </p:nvSpPr>
          <p:spPr>
            <a:xfrm flipH="1" flipV="1">
              <a:off x="2350800" y="2593080"/>
              <a:ext cx="1741320" cy="63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7" name="_s1031"/>
            <p:cNvSpPr/>
            <p:nvPr/>
          </p:nvSpPr>
          <p:spPr>
            <a:xfrm>
              <a:off x="921960" y="1756440"/>
              <a:ext cx="1493640" cy="11872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Сравнение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8" name="_s1032"/>
            <p:cNvSpPr/>
            <p:nvPr/>
          </p:nvSpPr>
          <p:spPr>
            <a:xfrm flipH="1">
              <a:off x="2136960" y="3559320"/>
              <a:ext cx="1897560" cy="21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9" name="_s1033"/>
            <p:cNvSpPr/>
            <p:nvPr/>
          </p:nvSpPr>
          <p:spPr>
            <a:xfrm>
              <a:off x="649800" y="3267720"/>
              <a:ext cx="1492920" cy="1186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Гипербол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0" name="_s1034"/>
            <p:cNvSpPr/>
            <p:nvPr/>
          </p:nvSpPr>
          <p:spPr>
            <a:xfrm flipH="1">
              <a:off x="2758320" y="3863520"/>
              <a:ext cx="1450440" cy="9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1" name="_s1035"/>
            <p:cNvSpPr/>
            <p:nvPr/>
          </p:nvSpPr>
          <p:spPr>
            <a:xfrm>
              <a:off x="1448280" y="4656240"/>
              <a:ext cx="1493640" cy="118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Метафор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2" name="_s1036"/>
            <p:cNvSpPr/>
            <p:nvPr/>
          </p:nvSpPr>
          <p:spPr>
            <a:xfrm flipH="1">
              <a:off x="4019760" y="4043160"/>
              <a:ext cx="544680" cy="145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3" name="_s1037"/>
            <p:cNvSpPr/>
            <p:nvPr/>
          </p:nvSpPr>
          <p:spPr>
            <a:xfrm>
              <a:off x="3064680" y="5481000"/>
              <a:ext cx="1493640" cy="118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Метонимия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4" name="_s1038"/>
            <p:cNvSpPr/>
            <p:nvPr/>
          </p:nvSpPr>
          <p:spPr>
            <a:xfrm>
              <a:off x="4984200" y="4041000"/>
              <a:ext cx="534960" cy="14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5" name="_s1039"/>
            <p:cNvSpPr/>
            <p:nvPr/>
          </p:nvSpPr>
          <p:spPr>
            <a:xfrm>
              <a:off x="4987080" y="5481000"/>
              <a:ext cx="1493640" cy="118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ерифра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6" name="_s1040"/>
            <p:cNvSpPr/>
            <p:nvPr/>
          </p:nvSpPr>
          <p:spPr>
            <a:xfrm>
              <a:off x="5335920" y="3858480"/>
              <a:ext cx="1444320" cy="99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7" name="_s1041"/>
            <p:cNvSpPr/>
            <p:nvPr/>
          </p:nvSpPr>
          <p:spPr>
            <a:xfrm>
              <a:off x="6602760" y="4654080"/>
              <a:ext cx="1493640" cy="118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Ирония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8" name="_s1042"/>
            <p:cNvSpPr/>
            <p:nvPr/>
          </p:nvSpPr>
          <p:spPr>
            <a:xfrm>
              <a:off x="5507640" y="3554640"/>
              <a:ext cx="1897560" cy="22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9" name="_s1043"/>
            <p:cNvSpPr/>
            <p:nvPr/>
          </p:nvSpPr>
          <p:spPr>
            <a:xfrm>
              <a:off x="7399080" y="3264840"/>
              <a:ext cx="1493640" cy="118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Синекдох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0" name="_s1044"/>
            <p:cNvSpPr/>
            <p:nvPr/>
          </p:nvSpPr>
          <p:spPr>
            <a:xfrm flipV="1">
              <a:off x="5446440" y="2595240"/>
              <a:ext cx="1744200" cy="6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1" name="_s1045"/>
            <p:cNvSpPr/>
            <p:nvPr/>
          </p:nvSpPr>
          <p:spPr>
            <a:xfrm>
              <a:off x="7123680" y="1754280"/>
              <a:ext cx="1493640" cy="118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ксюморон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2" name="_s1046"/>
            <p:cNvSpPr/>
            <p:nvPr/>
          </p:nvSpPr>
          <p:spPr>
            <a:xfrm flipV="1">
              <a:off x="5170680" y="1695240"/>
              <a:ext cx="1037520" cy="127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3" name="_s1047"/>
            <p:cNvSpPr/>
            <p:nvPr/>
          </p:nvSpPr>
          <p:spPr>
            <a:xfrm>
              <a:off x="5865840" y="600480"/>
              <a:ext cx="1493640" cy="118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лицетворение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4" name="_s1048"/>
            <p:cNvSpPr/>
            <p:nvPr/>
          </p:nvSpPr>
          <p:spPr>
            <a:xfrm flipV="1">
              <a:off x="4769640" y="1359360"/>
              <a:ext cx="0" cy="152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5" name="_s1049"/>
            <p:cNvSpPr/>
            <p:nvPr/>
          </p:nvSpPr>
          <p:spPr>
            <a:xfrm>
              <a:off x="4022640" y="172440"/>
              <a:ext cx="1493640" cy="118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Литота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6" name="_s1050"/>
            <p:cNvSpPr/>
            <p:nvPr/>
          </p:nvSpPr>
          <p:spPr>
            <a:xfrm>
              <a:off x="4022640" y="2882880"/>
              <a:ext cx="1493640" cy="1187280"/>
            </a:xfrm>
            <a:prstGeom prst="ellips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5e75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Comic Sans MS"/>
                </a:rPr>
                <a:t>Тропы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  <p:sp>
        <p:nvSpPr>
          <p:cNvPr id="177" name="Text Box 92"/>
          <p:cNvSpPr/>
          <p:nvPr/>
        </p:nvSpPr>
        <p:spPr>
          <a:xfrm>
            <a:off x="324000" y="404640"/>
            <a:ext cx="172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pic>
        <p:nvPicPr>
          <p:cNvPr id="178" name="WordArt 93" descr=""/>
          <p:cNvPicPr/>
          <p:nvPr/>
        </p:nvPicPr>
        <p:blipFill>
          <a:blip r:embed="rId1"/>
          <a:stretch/>
        </p:blipFill>
        <p:spPr>
          <a:xfrm>
            <a:off x="-79200" y="-49320"/>
            <a:ext cx="2109600" cy="2202120"/>
          </a:xfrm>
          <a:prstGeom prst="rect">
            <a:avLst/>
          </a:prstGeom>
          <a:ln w="0">
            <a:noFill/>
          </a:ln>
        </p:spPr>
      </p:pic>
      <p:pic>
        <p:nvPicPr>
          <p:cNvPr id="179" name="WordArt 98" descr=""/>
          <p:cNvPicPr/>
          <p:nvPr/>
        </p:nvPicPr>
        <p:blipFill>
          <a:blip r:embed="rId2"/>
          <a:stretch/>
        </p:blipFill>
        <p:spPr>
          <a:xfrm>
            <a:off x="7010280" y="225360"/>
            <a:ext cx="2127240" cy="197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дация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(от лат. «постепенность»)-слова располагаются в порядке усиления или ослабления признака.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Ветер ревел, бил людей холодными мокрыми   ладонями, пытался свалить с ног. (А.С.Пушкин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нафора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-повторение сл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Не напрасно дули ветры. Не напрасно шла гроза.                           (  С.Есенин)              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араллелизм-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одинаковое синтаксическое построение предложений.                                      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Он над тучами смеется, он от  радости рыдает! (М.Горьки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иторический вопрос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-фигура,в которой в форме вопроса содержится утверждение,не требующее отве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Зачем семьи родной безвестный кру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Я покидал</a:t>
            </a:r>
            <a:r>
              <a:rPr b="1" lang="en-US" sz="3600" spc="-1" strike="noStrike">
                <a:solidFill>
                  <a:srgbClr val="00b050"/>
                </a:solidFill>
                <a:latin typeface="Monotype Corsiva"/>
              </a:rPr>
              <a:t>?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 Всё сердце грело там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        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(М. Лермонов</a:t>
            </a: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7696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иторическое восклицание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(от греч. «оратор»)- стилистическая фигура, которая служит для усиления эмоционального восприя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Звенит и буйствует природ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Я соучастник ей во всём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(А. Блок)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иторическое обращение-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тилистическая фигура, состоящая из вопросов и восклицаний, выражающих сомнение, просьбу, негодование, жалобу, приветствие и пр., обращённых автором к людям , к природе или к самому се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О Волга! После многих лет                                                        Я вновь принес тебе привет.                                               (  Н.Некрасов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Тропы-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слова или обороты речи в переносном, иносказательном, образном смысл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mic Sans MS"/>
              </a:rPr>
              <a:t>Слова могут употребляться как в собственном, так и в переносном значении. Например, в выражениях</a:t>
            </a:r>
            <a:r>
              <a:rPr b="1" i="1" lang="en-US" sz="2400" spc="-1" strike="noStrike">
                <a:solidFill>
                  <a:srgbClr val="00b050"/>
                </a:solidFill>
                <a:latin typeface="Comic Sans MS"/>
              </a:rPr>
              <a:t>: </a:t>
            </a: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острый нож, твердый камень, слова «острый» и «твёрдый» употреблены в собственном смысле</a:t>
            </a:r>
            <a:r>
              <a:rPr b="1" lang="en-US" sz="2400" spc="-1" strike="noStrike">
                <a:solidFill>
                  <a:srgbClr val="00b050"/>
                </a:solidFill>
                <a:latin typeface="Comic Sans MS"/>
              </a:rPr>
              <a:t>;</a:t>
            </a: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 в выражениях же острый ум, твердый характер эти же самые слова употреблены в переносном знач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42600" y="333000"/>
            <a:ext cx="8072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питет-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художественное определение,ярко и образно  рисующее наиболее существенный признак предмета или явл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Отговорила роща золотая            Березовым весёлым языком…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С. Есенин                                                        Ночевала тучка золотая …                             М. Лермонтов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71320" y="260280"/>
            <a:ext cx="80722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равнения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слова или выражения, содержащие уподобление одного предмета или явления другому. Простейшая форма сравнения использует связующие слова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: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как, словно, точно, подобно, как бы, как будто, похож на, вот так бы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И стоит, словно зеркало,пруд,                                                      отражая свои берега.                              (И.Бунин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Пирует с дружиною вещий Оле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При звоне веселом стакана</a:t>
            </a:r>
            <a:r>
              <a:rPr b="1" i="1" lang="en-US" sz="2400" spc="-1" strike="noStrike">
                <a:solidFill>
                  <a:srgbClr val="00b05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И кудри их белы, как утренний сне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Над славной главою кург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(А.Пушкин)</a:t>
            </a:r>
            <a:r>
              <a:rPr b="1" i="1" lang="ru-RU" sz="2400" spc="-1" strike="noStrike">
                <a:solidFill>
                  <a:srgbClr val="00b050"/>
                </a:solidFill>
                <a:latin typeface="Comic Sans MS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13840" y="213840"/>
            <a:ext cx="82155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Метафора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(от греч. «перенесение»)-троп, состоящий в употреблении слов и выражений в переносном смысле на основе какой-нибудь аналогии, сходства, сравн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Мы пьём из чаши быт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С закрытыми глаза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Златые омочив кра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Своими же слезами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М.Ю.Лермонтов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Нос корабля, ножка стола, заря жизни,                                                                                говор волн, закат пылает, стрелка часов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7692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лицетворение-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рисвоение предметам неживой природы свойств живых сущест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Но вот багряною руко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Заря от утренних доли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Выводит с солнцем за собою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Весёлый праздник имени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(А.Пушкин)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Руки милой-пара лебедей- в золоте волос моих ныряют.                         ( С .Есенин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85840" y="356760"/>
            <a:ext cx="79437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Метонимия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(от греч. «переименование»)- поэтический троп , замена одного слова (понятия) другим словом (понятием),имеющим причинную связь с первы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С них отражал герой безумный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Один в толпе домашних слуг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Турецкой рати приступ шумный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Monotype Corsiva"/>
              </a:rPr>
              <a:t>И бросил шпагу под бунч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А.Пушкин)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Не то на серебре-на золоте едал .                                                                                                                              (А.Грибоедов</a:t>
            </a:r>
            <a:r>
              <a:rPr b="1" lang="ru-RU" sz="1800" spc="-1" strike="noStrike">
                <a:solidFill>
                  <a:srgbClr val="00b05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инекдоха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(от греч. «соотнесение»)-разновидность метонимии, перенос значения по количеству – большее вместо меньшего или наоборо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Скажи-ка, дядя, ведь не да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Москва спаленная пожа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Monotype Corsiva"/>
              </a:rPr>
              <a:t>Французу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отдана</a:t>
            </a:r>
            <a:r>
              <a:rPr b="1" lang="en-US" sz="2000" spc="-1" strike="noStrike">
                <a:solidFill>
                  <a:srgbClr val="00b050"/>
                </a:solidFill>
                <a:latin typeface="Monotype Corsiv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М.Лермонтов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И слышно было до рассвета, как ликовал француз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М.Лермонтов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19:55Z</dcterms:created>
  <dc:creator>Новиков А</dc:creator>
  <dc:description/>
  <dc:language>en-US</dc:language>
  <cp:lastModifiedBy>Ирина</cp:lastModifiedBy>
  <dcterms:modified xsi:type="dcterms:W3CDTF">2022-03-30T06:22:44Z</dcterms:modified>
  <cp:revision>22</cp:revision>
  <dc:subject/>
  <dc:title>Изобразительно-выразительные средства  языка</dc:title>
</cp:coreProperties>
</file>